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6922A-C4AC-43C3-A3C8-F9E583DDC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9674-DBC1-47D0-AC45-520D5298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7E020-748C-4FAE-B23F-28447296A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CEA36-A234-45E9-BB76-9DCAAF1BC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8C89F-FEA7-4A90-A17A-4AAE25204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6363-3E14-4826-B11C-196658761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ACCDE-FAC8-4D23-A553-D517660F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41503-32DA-4748-B037-5A4FAA05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14664-4E4B-472A-AB98-AE069D85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85F2-E073-42F1-9B10-5F3555C1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96BA-1422-4626-BDA2-ACA34C51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493D-2C5F-4553-B345-0E8E298B8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84C9-93DB-478A-8380-4102EBB32A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5.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0c0"/>
                </a:solidFill>
                <a:latin typeface="Calibri"/>
              </a:rPr>
              <a:t>Perfect World</a:t>
            </a:r>
            <a:endParaRPr b="0" lang="en-US" sz="8000" spc="-1" strike="noStrike">
              <a:solidFill>
                <a:srgbClr val="000000"/>
              </a:solidFill>
              <a:latin typeface="Calibri"/>
            </a:endParaRPr>
          </a:p>
        </p:txBody>
      </p:sp>
      <p:pic>
        <p:nvPicPr>
          <p:cNvPr id="42" name="Picture 2" descr="http://www.tropicalisland.de/KCH%20Sarawak%20-%20Bako%20National%20Park%20-%20Tropical%20rainforest2%201_b.jpg"/>
          <p:cNvPicPr/>
          <p:nvPr/>
        </p:nvPicPr>
        <p:blipFill>
          <a:blip r:embed="rId2"/>
          <a:stretch/>
        </p:blipFill>
        <p:spPr>
          <a:xfrm>
            <a:off x="1143000" y="1066680"/>
            <a:ext cx="7162920" cy="4657680"/>
          </a:xfrm>
          <a:prstGeom prst="rect">
            <a:avLst/>
          </a:prstGeom>
          <a:ln w="0">
            <a:noFill/>
          </a:ln>
        </p:spPr>
      </p:pic>
      <p:sp>
        <p:nvSpPr>
          <p:cNvPr id="43" name=""/>
          <p:cNvSpPr/>
          <p:nvPr/>
        </p:nvSpPr>
        <p:spPr>
          <a:xfrm>
            <a:off x="2743200" y="586728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Mohammad Khan and Anthony Ya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angere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nter Frogs: They are constantly being consumed by these newly introduced spec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ant Spider: They are constantly being consumed by the newly introduced Blood Anacondas. This will lower their populations, and endanger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ened</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maraptors: These dinosaurs will lose their food source concerning Hunter frogs, even though the primaraptors can consume other small organisms. They lose several food sources previously available to the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piked Maiden Plant: These plants will be threatened due to the saliva and blood of the Anaconda dripping from its mouth, which has the potential of harming these plants. Also the wide radius of these snakes can potentially crush all plants, and organisms underneath its weight. Therefore, these plants will be constantly crushed, and its protective scales can withstand the explosive seeds as well. Thus, these plants will become threatened, through the introduction of this new speci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Chang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 Plagas: There will be plenty of dead organisms for the Plagas to eat. The decomposers will face no change from the introduction of these spec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rmored Tree: Since the forest has fewer predators, predators do not consume the seeds contained in the hollow branches readily. These seeds will be consumed less, and thus there are chances of an increased amount of Armored trees in the near fu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od Anacondas: Despite its size, the forest is full of food, which allows more reproductive opportunities. Therefore, once reproduction would occur, there are fewer predators, that can harm the offspring. Thus, these blood anacondas will certainly increase, because all the factors in the environment are in their favo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tigation</a:t>
            </a:r>
            <a:endParaRPr b="0" lang="en-US" sz="3200" spc="-1" strike="noStrike">
              <a:solidFill>
                <a:srgbClr val="000000"/>
              </a:solidFill>
              <a:latin typeface="Calibri"/>
            </a:endParaRPr>
          </a:p>
        </p:txBody>
      </p:sp>
      <p:sp>
        <p:nvSpPr>
          <p:cNvPr id="86" name=""/>
          <p:cNvSpPr txBox="1"/>
          <p:nvPr/>
        </p:nvSpPr>
        <p:spPr>
          <a:xfrm>
            <a:off x="571320" y="685440"/>
            <a:ext cx="8001000" cy="57913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ent entry of the Blood Anaconda: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ent, or at least delay entry of this dangerous creature. Recommended practices inclu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possible to utilize land mines, which will upset the rain forest, as an attempt to destroy the anacondas. These land mines will destroy the habitat of the rain forest, which is something, which should be put into consideration. Most likely, this will tend to be a last resort method to try to exterminate these invasive species, from committing further harm to the rain forest. Anacondas should be attracted to the outskirts of the forest, through baiting methods. This will potentially minimize the damage, which the rainforest will face from the land mine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opulation control for the Blood Anaconda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entry is not preventable, then other methods must be devised to limit the population of Blood Anacondas. For examp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Destroy egg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essential to destroy the eggs of the Blood Anaconda to prevent the population of these dangerous species from increasing. By destroying the eggs, only the surviving Anacondas would live in the rain forest. Through the use of traps, and weapons it is possible to eliminate those anacondas as well. This can greatly limit the population, or possible destroy these invasive species from the rain fores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aps, Weap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possible to kill the Blood Anacondas by utilizing various traps to keep them contained in an specific area, before they can be eradicated by humans. Various weapons utilized by humans can also aid in trying to destroy these anacondas. This would depend solely on the population of the Blood Anacondas. If the population is out of control, this method of population control may be inefficien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for Watching Our Ecosystem PowerPoint</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ope you were able to understand the concept of our ecosystem, and how we applied given concepts into an imaginary ecosystem. This can also aid in understanding the fundamentals of ecology, and help in understanding A.P Biology Exam as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IKED MAIDEN PLANT</a:t>
            </a:r>
            <a:endParaRPr b="0" lang="en-US" sz="4400" spc="-1" strike="noStrike">
              <a:solidFill>
                <a:srgbClr val="000000"/>
              </a:solidFill>
              <a:latin typeface="Calibri"/>
            </a:endParaRPr>
          </a:p>
        </p:txBody>
      </p:sp>
      <p:sp>
        <p:nvSpPr>
          <p:cNvPr id="45"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Produc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Scatter throughout the tropical rainfore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Lar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Self pollination, flowers around summer and beginning of fa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Autotroph and eaten by Hunter Frog (seeds), Dinosaurs (outer layer of skin), and Giant Spider (outer layer of sk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High temperatures , warm and sunny autumns, foggy environment, and high humidit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Lives on the forest floor, and some elevated area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 name="TextBox 9"/>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47" name="Picture 2" descr="http://dommy.com/alan/pix/barrel-cactus.jpg"/>
          <p:cNvPicPr/>
          <p:nvPr/>
        </p:nvPicPr>
        <p:blipFill>
          <a:blip r:embed="rId2"/>
          <a:stretch/>
        </p:blipFill>
        <p:spPr>
          <a:xfrm>
            <a:off x="990720" y="1600200"/>
            <a:ext cx="2990880" cy="44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RMORED TREE</a:t>
            </a:r>
            <a:endParaRPr b="0" lang="en-US" sz="4400" spc="-1" strike="noStrike">
              <a:solidFill>
                <a:srgbClr val="000000"/>
              </a:solidFill>
              <a:latin typeface="Calibri"/>
            </a:endParaRPr>
          </a:p>
        </p:txBody>
      </p:sp>
      <p:sp>
        <p:nvSpPr>
          <p:cNvPr id="49"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fontScale="99000"/>
          </a:bodyPr>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ype: Producer</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ange: Scatter throughout the tropical rainforest</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opulation Size: Large</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production: Pollinated with the help of the wind</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utrition: Autotroph and eaten by Hunter Frog (seeds)</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limate: High temperatures , warm and sunny summers, cool autumn</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urface: Around the tropical rain  forest, trees extend through the canopy layer, which allows them to obtain the most sunlight</a:t>
            </a:r>
            <a:endParaRPr b="0" lang="en-US" sz="2100" spc="-1" strike="noStrike">
              <a:solidFill>
                <a:srgbClr val="000000"/>
              </a:solidFill>
              <a:latin typeface="Calibri"/>
            </a:endParaRPr>
          </a:p>
          <a:p>
            <a:pPr marL="339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50"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51" name="Picture 2" descr="tree116small"/>
          <p:cNvPicPr/>
          <p:nvPr/>
        </p:nvPicPr>
        <p:blipFill>
          <a:blip r:embed="rId2"/>
          <a:stretch/>
        </p:blipFill>
        <p:spPr>
          <a:xfrm>
            <a:off x="152280" y="2209680"/>
            <a:ext cx="437832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NTER FROG</a:t>
            </a:r>
            <a:endParaRPr b="0" lang="en-US" sz="4400" spc="-1" strike="noStrike">
              <a:solidFill>
                <a:srgbClr val="000000"/>
              </a:solidFill>
              <a:latin typeface="Calibri"/>
            </a:endParaRPr>
          </a:p>
        </p:txBody>
      </p:sp>
      <p:sp>
        <p:nvSpPr>
          <p:cNvPr id="53"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Consum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Scatter throughout the tropical rainforest, especially in dense, foggy area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Moder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Males fertilize the eggs produced by  the females, externall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Seeds from the Spiked Maiden Plant and the seeds from the Armored Tree. Eaten by Primaraptors and Giant Spide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Warm and moist areas, and areas with plenty of wat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Amphibious, lives near water</a:t>
            </a:r>
            <a:endParaRPr b="0" lang="en-US" sz="2000" spc="-1" strike="noStrike">
              <a:solidFill>
                <a:srgbClr val="000000"/>
              </a:solidFill>
              <a:latin typeface="Calibri"/>
            </a:endParaRPr>
          </a:p>
        </p:txBody>
      </p:sp>
      <p:sp>
        <p:nvSpPr>
          <p:cNvPr id="54"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55" name="Picture 2" descr="http://img65.imageshack.us/img65/9463/ma124g0pmwr7.jpg"/>
          <p:cNvPicPr/>
          <p:nvPr/>
        </p:nvPicPr>
        <p:blipFill>
          <a:blip r:embed="rId2"/>
          <a:stretch/>
        </p:blipFill>
        <p:spPr>
          <a:xfrm>
            <a:off x="228600" y="1981080"/>
            <a:ext cx="42195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MARAPTOR</a:t>
            </a:r>
            <a:endParaRPr b="0" lang="en-US" sz="4400" spc="-1" strike="noStrike">
              <a:solidFill>
                <a:srgbClr val="000000"/>
              </a:solidFill>
              <a:latin typeface="Calibri"/>
            </a:endParaRPr>
          </a:p>
        </p:txBody>
      </p:sp>
      <p:sp>
        <p:nvSpPr>
          <p:cNvPr id="57"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Consum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Scattered throughout the outskirts of the rainfore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Moder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Internal fertilization and extensive care for the young</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Hunter Frog, seeds from the Armored Tree and outer layer from the Spiked Maiden plant. Eaten by Giant Spid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ool winters, warm and sunny summe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Land with no capability of swimming</a:t>
            </a:r>
            <a:endParaRPr b="0" lang="en-US" sz="2000" spc="-1" strike="noStrike">
              <a:solidFill>
                <a:srgbClr val="000000"/>
              </a:solidFill>
              <a:latin typeface="Calibri"/>
            </a:endParaRPr>
          </a:p>
        </p:txBody>
      </p:sp>
      <p:sp>
        <p:nvSpPr>
          <p:cNvPr id="58"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59" name="Picture 2" descr="http://www.maslowinc.com/gm/imgs%5Cphotos%5Cdeinonychus.jpg"/>
          <p:cNvPicPr/>
          <p:nvPr/>
        </p:nvPicPr>
        <p:blipFill>
          <a:blip r:embed="rId2"/>
          <a:stretch/>
        </p:blipFill>
        <p:spPr>
          <a:xfrm>
            <a:off x="228600" y="2438280"/>
            <a:ext cx="430992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IANT SPIDER</a:t>
            </a:r>
            <a:endParaRPr b="0" lang="en-US" sz="4400" spc="-1" strike="noStrike">
              <a:solidFill>
                <a:srgbClr val="000000"/>
              </a:solidFill>
              <a:latin typeface="Calibri"/>
            </a:endParaRPr>
          </a:p>
        </p:txBody>
      </p:sp>
      <p:sp>
        <p:nvSpPr>
          <p:cNvPr id="61"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Consum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Centered around moist areas and dark cav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Sma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Sexual reproduction and offspring receive care and assistanc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Hunter Frog, seeds from the Armored Tree and outer layer from the Spiked Maiden Plant, and  Primaraptors. This organism is the top level predato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ool summers and moderate winte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Forest floor and top of the trees</a:t>
            </a:r>
            <a:endParaRPr b="0" lang="en-US" sz="2000" spc="-1" strike="noStrike">
              <a:solidFill>
                <a:srgbClr val="000000"/>
              </a:solidFill>
              <a:latin typeface="Calibri"/>
            </a:endParaRPr>
          </a:p>
        </p:txBody>
      </p:sp>
      <p:sp>
        <p:nvSpPr>
          <p:cNvPr id="62"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63" name="Picture 2" descr="http://residentevil.planets.gamespy.com/images/pages/sketchbooks/re2/beta/spider.jpg"/>
          <p:cNvPicPr/>
          <p:nvPr/>
        </p:nvPicPr>
        <p:blipFill>
          <a:blip r:embed="rId2"/>
          <a:stretch/>
        </p:blipFill>
        <p:spPr>
          <a:xfrm>
            <a:off x="152280" y="2286000"/>
            <a:ext cx="4445280" cy="30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AS PLAGAS</a:t>
            </a:r>
            <a:endParaRPr b="0" lang="en-US" sz="4400" spc="-1" strike="noStrike">
              <a:solidFill>
                <a:srgbClr val="000000"/>
              </a:solidFill>
              <a:latin typeface="Calibri"/>
            </a:endParaRPr>
          </a:p>
        </p:txBody>
      </p:sp>
      <p:sp>
        <p:nvSpPr>
          <p:cNvPr id="65"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 Decompos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nge: Soil throughout the rain fores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tion Size: Larg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roduction: Asexual reproduction, hermaphroditic, and no care of young</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utrition: Eat  anything and everything when it is dea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Warm temperatures, and moist environmen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rface: Flat ground, under rocks, forest floor, and soil</a:t>
            </a:r>
            <a:endParaRPr b="0" lang="en-US" sz="2200" spc="-1" strike="noStrike">
              <a:solidFill>
                <a:srgbClr val="000000"/>
              </a:solidFill>
              <a:latin typeface="Calibri"/>
            </a:endParaRPr>
          </a:p>
        </p:txBody>
      </p:sp>
      <p:sp>
        <p:nvSpPr>
          <p:cNvPr id="66"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67" name="Picture 2" descr="http://smg.photobucket.com/albums/v693/nightraven19872004/Monster/th_180px-Albinoid.jpg"/>
          <p:cNvPicPr/>
          <p:nvPr/>
        </p:nvPicPr>
        <p:blipFill>
          <a:blip r:embed="rId2"/>
          <a:stretch/>
        </p:blipFill>
        <p:spPr>
          <a:xfrm>
            <a:off x="152280" y="2057400"/>
            <a:ext cx="428652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urbance in the Ecosystem</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gravid (pregnant) Blood Anaconda is introduced into the rain forest. The Anaconda consumes giant spiders, and hunter frogs. Due to its inconsistency and size, reproduction is rare. Anacondas will consume all the high levels of toxicity contained within the bodies of the other consumers, which will adversely affect other organisms in the rain forest. As the saliva of the python and blood drips from the mouth, it has a high level of toxicity. This can cause a paralysis effect, which can allow the anaconda to quickly swallow its prey. Plants will also be damaged by the saliva, which can even kill the plants, or other organisms in the path of the anaconda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ct on Species</a:t>
            </a:r>
            <a:endParaRPr b="0" lang="en-US" sz="3200" spc="-1" strike="noStrike">
              <a:solidFill>
                <a:srgbClr val="000000"/>
              </a:solidFill>
              <a:latin typeface="Calibri"/>
            </a:endParaRPr>
          </a:p>
        </p:txBody>
      </p:sp>
      <p:pic>
        <p:nvPicPr>
          <p:cNvPr id="71" name="Picture 2" descr="http://dommy.com/alan/pix/barrel-cactus.jpg"/>
          <p:cNvPicPr/>
          <p:nvPr/>
        </p:nvPicPr>
        <p:blipFill>
          <a:blip r:embed="rId2"/>
          <a:stretch/>
        </p:blipFill>
        <p:spPr>
          <a:xfrm>
            <a:off x="0" y="0"/>
            <a:ext cx="2468520" cy="3657600"/>
          </a:xfrm>
          <a:prstGeom prst="rect">
            <a:avLst/>
          </a:prstGeom>
          <a:ln w="0">
            <a:noFill/>
          </a:ln>
        </p:spPr>
      </p:pic>
      <p:pic>
        <p:nvPicPr>
          <p:cNvPr id="72" name="Picture 2" descr="tree116small"/>
          <p:cNvPicPr/>
          <p:nvPr/>
        </p:nvPicPr>
        <p:blipFill>
          <a:blip r:embed="rId3"/>
          <a:stretch/>
        </p:blipFill>
        <p:spPr>
          <a:xfrm>
            <a:off x="0" y="3657600"/>
            <a:ext cx="4724280" cy="3200400"/>
          </a:xfrm>
          <a:prstGeom prst="rect">
            <a:avLst/>
          </a:prstGeom>
          <a:ln w="0">
            <a:noFill/>
          </a:ln>
        </p:spPr>
      </p:pic>
      <p:pic>
        <p:nvPicPr>
          <p:cNvPr id="73" name="Picture 2" descr="http://www.maslowinc.com/gm/imgs%5Cphotos%5Cdeinonychus.jpg"/>
          <p:cNvPicPr/>
          <p:nvPr/>
        </p:nvPicPr>
        <p:blipFill>
          <a:blip r:embed="rId4"/>
          <a:stretch/>
        </p:blipFill>
        <p:spPr>
          <a:xfrm>
            <a:off x="4724280" y="4648320"/>
            <a:ext cx="4419720" cy="2209680"/>
          </a:xfrm>
          <a:prstGeom prst="rect">
            <a:avLst/>
          </a:prstGeom>
          <a:ln w="0">
            <a:noFill/>
          </a:ln>
        </p:spPr>
      </p:pic>
      <p:pic>
        <p:nvPicPr>
          <p:cNvPr id="74" name="Picture 2" descr="http://img65.imageshack.us/img65/9463/ma124g0pmwr7.jpg"/>
          <p:cNvPicPr/>
          <p:nvPr/>
        </p:nvPicPr>
        <p:blipFill>
          <a:blip r:embed="rId5"/>
          <a:stretch/>
        </p:blipFill>
        <p:spPr>
          <a:xfrm>
            <a:off x="5943600" y="0"/>
            <a:ext cx="3200400" cy="2889360"/>
          </a:xfrm>
          <a:prstGeom prst="rect">
            <a:avLst/>
          </a:prstGeom>
          <a:ln w="0">
            <a:noFill/>
          </a:ln>
        </p:spPr>
      </p:pic>
      <p:pic>
        <p:nvPicPr>
          <p:cNvPr id="75" name="Picture 2" descr="http://residentevil.planets.gamespy.com/images/pages/sketchbooks/re2/beta/spider.jpg"/>
          <p:cNvPicPr/>
          <p:nvPr/>
        </p:nvPicPr>
        <p:blipFill>
          <a:blip r:embed="rId6"/>
          <a:stretch/>
        </p:blipFill>
        <p:spPr>
          <a:xfrm>
            <a:off x="2438280" y="0"/>
            <a:ext cx="3505320" cy="2430360"/>
          </a:xfrm>
          <a:prstGeom prst="rect">
            <a:avLst/>
          </a:prstGeom>
          <a:ln w="0">
            <a:noFill/>
          </a:ln>
        </p:spPr>
      </p:pic>
      <p:pic>
        <p:nvPicPr>
          <p:cNvPr id="76" name="Picture 2" descr="http://smg.photobucket.com/albums/v693/nightraven19872004/Monster/th_180px-Albinoid.jpg"/>
          <p:cNvPicPr/>
          <p:nvPr/>
        </p:nvPicPr>
        <p:blipFill>
          <a:blip r:embed="rId7"/>
          <a:stretch/>
        </p:blipFill>
        <p:spPr>
          <a:xfrm>
            <a:off x="6705720" y="2882880"/>
            <a:ext cx="2438280" cy="17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0:38:00Z</dcterms:created>
  <dc:creator>Anthony Yam</dc:creator>
  <dc:description/>
  <dc:language>en-US</dc:language>
  <cp:lastModifiedBy>Mohammad Khan</cp:lastModifiedBy>
  <dcterms:modified xsi:type="dcterms:W3CDTF">2008-02-03T21:52:42Z</dcterms:modified>
  <cp:revision>14</cp:revision>
  <dc:subject/>
  <dc:title>Slide 1</dc:title>
</cp:coreProperties>
</file>